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7869-8FCA-4DF9-A1FD-737852CC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5E19-807F-4DD0-BC2D-D0D5E2D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E7C1-1333-4960-B3ED-49D62FE7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BF5D-2F4A-4DC5-8812-EB1D0E88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9959-150E-4450-8E1F-2A1F5D69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C954-5A3C-4D80-99E5-DC539D18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5377-A229-4C69-B5DB-BBB0EA39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EA03-A5C0-4207-9C6B-B1EA4605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8441-1C1D-4EE5-8872-1AE05AF5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7BDA-A866-49EE-B0AF-7D5501ED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9DB4-F789-493B-A796-D4749C7B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EF49-CB2F-45AB-97CF-814FF4BF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3E2B-BD48-44D3-8E7B-BDE7975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1314-4FCB-4065-9E4B-12838471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9335-927B-4AA8-BBAF-4C846530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69AE-7570-4677-80BE-41528BCD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53FE-7DF4-47B5-962B-BDE39CCD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27B4-22FD-4069-8689-1CEEAB3B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DBFA-85B2-4F88-87A2-DFD8C465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815E-6979-4A9D-97CA-1F398E5D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1437-A56D-4AE3-BB4B-60F86468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1097-7A51-4327-9BD0-BFFAD97C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96C3-CE4C-4DBF-A872-A6FBD635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85AF-6920-4D3C-B025-4D2101A4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685C-4789-4717-8EE9-B9E3062DA8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1A85-F13E-45F9-B71B-8C8BE560DD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 casa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Jason A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Ma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mansion. Es muy grande y moder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0866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coci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cocina. Es muy monderno y fabulos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modern kitchen decorating for minimalist home design"/>
          <p:cNvPicPr/>
          <p:nvPr/>
        </p:nvPicPr>
        <p:blipFill>
          <a:blip r:embed="rId1"/>
          <a:stretch/>
        </p:blipFill>
        <p:spPr>
          <a:xfrm>
            <a:off x="1447920" y="2590920"/>
            <a:ext cx="59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omed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comedor. Es muy incredible y bonit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00600" cy="26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sala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sala. Es muy lujoso y grand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715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bań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ańo. Es muy grand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41148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uar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cuarto. Es muy bello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33720" y="2684520"/>
            <a:ext cx="41907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pat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patio. Es muy fabulos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381024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gara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garaje. Es muy moderno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429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8:54Z</dcterms:created>
  <dc:creator>armsjas</dc:creator>
  <dc:description/>
  <dc:language>en-US</dc:language>
  <cp:lastModifiedBy>armsjas</cp:lastModifiedBy>
  <dcterms:modified xsi:type="dcterms:W3CDTF">2011-10-25T15:58:06Z</dcterms:modified>
  <cp:revision>6</cp:revision>
  <dc:subject/>
  <dc:title>La casa </dc:title>
</cp:coreProperties>
</file>